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944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CFB7245-EC4B-4323-BE62-B712DBABF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44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F02F172-BD01-4701-9298-26B550535A5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7923E8B-3073-47BA-A368-005B92F2FDF4}" type="slidenum">
              <a:rPr b="0" lang="en-US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F7120C8-8812-4A89-A304-05C014942178}" type="slidenum">
              <a:rPr b="0" lang="en-US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F7058D2-8125-4333-A710-5FB16D08054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roblem is that most HEIs have lists of 10 reasons for choosing us. They are after everyone but none of the messages get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strengths/2-3 segments and then the message can be drilled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C5FC5E9-0796-4F3E-AEDA-AC13878A014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FMCG brands are positioned using communications – mass media and adverti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I do not have the budget to do this – segment then target with media/messa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CFEE126-0DC3-4D04-9152-4D3F7958EF2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44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7A025FC-21EF-4028-9947-3339784144E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213C6AD-B590-415E-BFA5-DAFD001FBFB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ughborough owns sp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ngor owns the big outdoors (ov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44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9C37101-7A5A-496E-9297-5508AA61A21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44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3D781A3-FC5D-485C-80C9-460D9174BB7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322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740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120" y="1371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8520" y="1371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322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120" y="3322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8520" y="3322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24E-B7D8-43AD-B31C-6D8D42FF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7566-84FF-4EF4-956A-D48CF654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BED-3A6E-44AC-A92C-E570A64E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317F-5022-48EC-8A88-653D8110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0D74-810C-44BB-B82D-F0243745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0555-058F-4510-943C-93BFC86D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772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6FAD-0F42-46F7-BFC1-5DFC2489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3740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6D6F-01FA-4DEC-86F3-F4C0451F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3322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BD11-82C1-4205-B420-5DBA535C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7720" y="3322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DC80-B055-4864-9C83-3EC5DC41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772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3740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CF2-FF2E-4AD2-9F94-CC0F1BE0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3120" y="1371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48520" y="1371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7720" y="3322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3120" y="3322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48520" y="3322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49CC-F75A-48E8-9CB9-4059D1DA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772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3740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3322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37720" y="3322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772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93740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3120" y="1371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48520" y="13716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37720" y="3322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3120" y="3322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248520" y="33220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7400" y="33220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7400" y="13716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3220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053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Line 2062"/>
          <p:cNvSpPr/>
          <p:nvPr/>
        </p:nvSpPr>
        <p:spPr>
          <a:xfrm flipH="1">
            <a:off x="380520" y="6477120"/>
            <a:ext cx="5715000" cy="0"/>
          </a:xfrm>
          <a:prstGeom prst="line">
            <a:avLst/>
          </a:prstGeom>
          <a:ln w="28440">
            <a:solidFill>
              <a:srgbClr val="9ca1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" name="Picture 2063" descr=""/>
          <p:cNvPicPr/>
          <p:nvPr/>
        </p:nvPicPr>
        <p:blipFill>
          <a:blip r:embed="rId2"/>
          <a:stretch/>
        </p:blipFill>
        <p:spPr>
          <a:xfrm>
            <a:off x="6248520" y="5626080"/>
            <a:ext cx="2444760" cy="93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345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1143000" y="2590920"/>
            <a:ext cx="7772040" cy="318960"/>
            <a:chOff x="1143000" y="2590920"/>
            <a:chExt cx="7772040" cy="318960"/>
          </a:xfrm>
        </p:grpSpPr>
        <p:sp>
          <p:nvSpPr>
            <p:cNvPr id="44" name="AutoShape 6"/>
            <p:cNvSpPr/>
            <p:nvPr/>
          </p:nvSpPr>
          <p:spPr>
            <a:xfrm flipH="1">
              <a:off x="1143000" y="2590920"/>
              <a:ext cx="737208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" name="AutoShape 7"/>
            <p:cNvSpPr/>
            <p:nvPr/>
          </p:nvSpPr>
          <p:spPr>
            <a:xfrm>
              <a:off x="8500320" y="2590920"/>
              <a:ext cx="41472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772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1676160" y="6337800"/>
            <a:ext cx="2895480" cy="5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phen Holmes and Assoc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09DF-6FC7-46B7-A730-1AAD05D22B87}" type="slidenum">
              <a:rPr b="1" lang="en-A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053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Line 2062"/>
          <p:cNvSpPr/>
          <p:nvPr/>
        </p:nvSpPr>
        <p:spPr>
          <a:xfrm flipH="1">
            <a:off x="380520" y="6477120"/>
            <a:ext cx="5715000" cy="0"/>
          </a:xfrm>
          <a:prstGeom prst="line">
            <a:avLst/>
          </a:prstGeom>
          <a:ln w="28440">
            <a:solidFill>
              <a:srgbClr val="9ca1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89" name="Picture 2063" descr=""/>
          <p:cNvPicPr/>
          <p:nvPr/>
        </p:nvPicPr>
        <p:blipFill>
          <a:blip r:embed="rId2"/>
          <a:stretch/>
        </p:blipFill>
        <p:spPr>
          <a:xfrm>
            <a:off x="6248520" y="5626080"/>
            <a:ext cx="2444760" cy="939960"/>
          </a:xfrm>
          <a:prstGeom prst="rect">
            <a:avLst/>
          </a:prstGeom>
          <a:ln w="0">
            <a:noFill/>
          </a:ln>
        </p:spPr>
      </p:pic>
      <p:sp>
        <p:nvSpPr>
          <p:cNvPr id="90" name="Oval 9"/>
          <p:cNvSpPr/>
          <p:nvPr/>
        </p:nvSpPr>
        <p:spPr>
          <a:xfrm>
            <a:off x="8226360" y="260280"/>
            <a:ext cx="398520" cy="398520"/>
          </a:xfrm>
          <a:prstGeom prst="ellipse">
            <a:avLst/>
          </a:prstGeom>
          <a:solidFill>
            <a:srgbClr val="ffffff">
              <a:alpha val="25000"/>
            </a:srgbClr>
          </a:solidFill>
          <a:ln w="316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8234280" y="289080"/>
            <a:ext cx="3812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9F73-8543-48B7-9479-472DEE37A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3772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.holmes@theknowledgepartnership.com" TargetMode="External"/><Relationship Id="rId2" Type="http://schemas.openxmlformats.org/officeDocument/2006/relationships/hyperlink" Target="http://www.theknowledgepartnership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228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Innovative Marketing: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Positioning Through Pedagog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ISNZ Conference 2014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Dr Stephen Holmes PhD (Education Market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Managing Partn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The Knowledge Partnership Australia and Asia Pte Lt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Calibri"/>
                <a:hlinkClick r:id="rId1"/>
              </a:rPr>
              <a:t>s.holmes@theknowledgepartnership.c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Calibri"/>
                <a:hlinkClick r:id="rId2"/>
              </a:rPr>
              <a:t>www.theknowledgepartnership.c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71320" y="1483920"/>
            <a:ext cx="80010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</a:rPr>
              <a:t>The </a:t>
            </a: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central role that teaching quality plays in market perception </a:t>
            </a:r>
            <a:r>
              <a:rPr b="0" lang="en-GB" sz="2000" spc="-1" strike="noStrike">
                <a:solidFill>
                  <a:srgbClr val="003366"/>
                </a:solidFill>
                <a:latin typeface="Calibri"/>
              </a:rPr>
              <a:t>means that mismanagement is unlikely to be compensated for by good management in other area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</a:rPr>
              <a:t>Research in advanced countries shows</a:t>
            </a: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 a central factor in parent decision making in selecting provider is the quality of teaching and associated benefi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</a:rPr>
              <a:t>In an age when decisions of accepting parents significantly shaped by teaching and learning as it applies to their child, </a:t>
            </a:r>
            <a:r>
              <a:rPr b="1" lang="en-GB" sz="2000" spc="-1" strike="noStrike">
                <a:solidFill>
                  <a:srgbClr val="003366"/>
                </a:solidFill>
                <a:latin typeface="Calibri"/>
              </a:rPr>
              <a:t>management of teaching/pedagogy is critical to school reput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-3240"/>
            <a:ext cx="9144000" cy="1009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eaching/Pedagogy Based Positioning- Wh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6418440" y="5626080"/>
            <a:ext cx="251748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308480" cy="42483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eaching/Pedagogy Based Positioning and School Choi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835280" y="1844640"/>
          <a:ext cx="4392360" cy="4451400"/>
        </p:xfrm>
        <a:graphic>
          <a:graphicData uri="http://schemas.openxmlformats.org/drawingml/2006/table">
            <a:tbl>
              <a:tblPr/>
              <a:tblGrid>
                <a:gridCol w="3527280"/>
                <a:gridCol w="865080"/>
              </a:tblGrid>
              <a:tr h="212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llective sample benchmark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k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</a:tr>
              <a:tr h="42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ademic performance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</a:tr>
              <a:tr h="42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aching &amp; educational standards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</a:tr>
              <a:tr h="42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putation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</a:tr>
              <a:tr h="42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rriculum offering (co-curricula choices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</a:tr>
              <a:tr h="42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ality &amp; attitude of teaching staff &amp; Principal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</a:tr>
              <a:tr h="42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cation/proximity to home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</a:tr>
              <a:tr h="42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ool values, ethos &amp; culture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</a:tr>
              <a:tr h="42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ilities/resources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</a:tr>
              <a:tr h="42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ld’s needs are met/child’s happiness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</a:tr>
              <a:tr h="423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es/cos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452b0"/>
                    </a:solidFill>
                  </a:tcPr>
                </a:tc>
              </a:tr>
            </a:tbl>
          </a:graphicData>
        </a:graphic>
      </p:graphicFrame>
      <p:sp>
        <p:nvSpPr>
          <p:cNvPr id="163" name="Rectangle 2"/>
          <p:cNvSpPr/>
          <p:nvPr/>
        </p:nvSpPr>
        <p:spPr>
          <a:xfrm>
            <a:off x="1116000" y="769320"/>
            <a:ext cx="591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Calibri"/>
                <a:ea typeface="Times New Roman"/>
              </a:rPr>
              <a:t>Top 10 motivators in selecting a school toda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Calibri"/>
                <a:ea typeface="Times New Roman"/>
              </a:rPr>
              <a:t>How to Engage Effectively with Modern Paren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Calibri"/>
                <a:ea typeface="Times New Roman"/>
              </a:rPr>
              <a:t>2009- 100 AHISA schools invited to participate nationally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Calibri"/>
                <a:ea typeface="Times New Roman"/>
              </a:rPr>
              <a:t>(The Knowledge Partnership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-68400"/>
            <a:ext cx="9144000" cy="8445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ositioning based on Parent Choice (motivators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Oval 1"/>
          <p:cNvSpPr/>
          <p:nvPr/>
        </p:nvSpPr>
        <p:spPr>
          <a:xfrm>
            <a:off x="1332000" y="2422440"/>
            <a:ext cx="5327640" cy="50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68000" y="1198440"/>
            <a:ext cx="8217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1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  <a:ea typeface="Arial"/>
              </a:rPr>
              <a:t>LESS reliance on visual brand identity than behaviors, teaching, staff, services, courses (more appropriate for schools as experiential in nature and W.O.M recommendation)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1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1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  <a:ea typeface="Arial"/>
              </a:rPr>
              <a:t>MORE related to core ‘business’ (staffing, teaching, learning,) e.g. a vision based pedagogy that translates into positioning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1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1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  <a:ea typeface="Arial"/>
              </a:rPr>
              <a:t>MAKE positioning not just limited to marketing communications but aligned to choice factors through conscious investment and messaging (e.g. teaching quality)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1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1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Calibri"/>
                <a:ea typeface="Arial"/>
              </a:rPr>
              <a:t>MAKE institutional focused marketing just part of the story. Granular and compelling evidence about quality of teaching description as it relates to student learning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1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1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3366"/>
                </a:solidFill>
                <a:latin typeface="Calibri"/>
                <a:ea typeface="Arial"/>
              </a:rPr>
              <a:t>ENHANCE data intelligence and systematic performance analysis increasingly a strategy requirement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edagogy and  Positioning: A Market Opportunity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47640" y="1510920"/>
            <a:ext cx="7848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  <a:ea typeface="Arial"/>
              </a:rPr>
              <a:t>Building success in marke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  <a:ea typeface="Arial"/>
              </a:rPr>
              <a:t>How is this best don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  <a:ea typeface="Arial"/>
              </a:rPr>
              <a:t>1. Identifying the education experience and its outcomes/benefits (strategy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  <a:ea typeface="Arial"/>
              </a:rPr>
              <a:t>2. Marketing/communicating how this fits with markets (rhetoric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  <a:ea typeface="Arial"/>
              </a:rPr>
              <a:t>3. So, a holistic and integrated view which means schools ‘what they do’ plus ‘what they say’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0" y="-31680"/>
            <a:ext cx="9144000" cy="10126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at Does Education Market Positioning Involve?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22080" y="1483920"/>
            <a:ext cx="78483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3366"/>
                </a:solidFill>
                <a:uFillTx/>
                <a:latin typeface="Calibri"/>
                <a:ea typeface="Arial"/>
              </a:rPr>
              <a:t>20 YEARS OF ANALYSI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366"/>
                </a:solidFill>
                <a:latin typeface="Calibri"/>
                <a:ea typeface="Arial"/>
              </a:rPr>
              <a:t>A clarity of visio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366"/>
                </a:solidFill>
                <a:latin typeface="Calibri"/>
                <a:ea typeface="Arial"/>
              </a:rPr>
              <a:t>A professional managerial approach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366"/>
                </a:solidFill>
                <a:latin typeface="Calibri"/>
                <a:ea typeface="Arial"/>
              </a:rPr>
              <a:t>Willingness to invest strategically in assets to deliver vision (e.g.10 year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366"/>
                </a:solidFill>
                <a:latin typeface="Calibri"/>
                <a:ea typeface="Arial"/>
              </a:rPr>
              <a:t>Determination not to embark on anything unless to highest standards (applies to services as well as academic activity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An Effective Strategy in a Competitive Marke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7720" y="1495440"/>
            <a:ext cx="76215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366"/>
                </a:solidFill>
                <a:latin typeface="Calibri"/>
              </a:rPr>
              <a:t>One of first issues to build effective positioning is selection of market messages or propositions to underpin a desired positioning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</a:rPr>
              <a:t>Schools are effectively positioned by highlighting how they deliver valued benefits that are not matched by direct competitor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</a:rPr>
              <a:t>It is incumbent on a school to effectively position– explaining value, what makes them different and effective. This is a benefit to parents/students as it facilitates choice based on their own preferences for learning styles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An Effective Strategy in a Competitive Marke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6248520" y="5626080"/>
            <a:ext cx="2444760" cy="939960"/>
          </a:xfrm>
          <a:prstGeom prst="rect">
            <a:avLst/>
          </a:prstGeom>
          <a:ln w="0">
            <a:noFill/>
          </a:ln>
        </p:spPr>
      </p:pic>
      <p:sp>
        <p:nvSpPr>
          <p:cNvPr id="175" name="Line 3"/>
          <p:cNvSpPr/>
          <p:nvPr/>
        </p:nvSpPr>
        <p:spPr>
          <a:xfrm flipH="1">
            <a:off x="380520" y="6477120"/>
            <a:ext cx="5715000" cy="0"/>
          </a:xfrm>
          <a:prstGeom prst="line">
            <a:avLst/>
          </a:prstGeom>
          <a:ln w="28440">
            <a:solidFill>
              <a:srgbClr val="9ca1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Strategic Proc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Calibri"/>
              </a:rPr>
              <a:t>Align Your Teaching/Pedagogy Strength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Calibri"/>
              </a:rPr>
              <a:t>Key Motivations/Choice Facto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042920" y="1916280"/>
            <a:ext cx="1584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4427640" y="2637000"/>
            <a:ext cx="0" cy="108108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78487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Calibri"/>
                <a:ea typeface="Arial"/>
              </a:rPr>
              <a:t>Positioning as Strategy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Calibri"/>
                <a:ea typeface="Arial"/>
              </a:rPr>
              <a:t>Create a proposition to appeal to your target segments and “position” accordingly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Calibri"/>
                <a:ea typeface="Arial"/>
              </a:rPr>
              <a:t>Cannot simply be based on communication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Calibri"/>
                <a:ea typeface="Arial"/>
              </a:rPr>
              <a:t>Invest disproportionately in what that underpins propositio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Calibri"/>
                <a:ea typeface="Arial"/>
              </a:rPr>
              <a:t>Deliver on the promise, measure and utilise to stimulate word of mouth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772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Choice and Motivation Alignmen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Valu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Sustainabl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Authentic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Applicabilit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Developing Effective Positioning by Pedagogy-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Development Metr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71320" y="1557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  <a:ea typeface="Arial"/>
              </a:rPr>
              <a:t>Independent School Landscap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  <a:ea typeface="Arial"/>
              </a:rPr>
              <a:t>Positioning Demystifi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  <a:ea typeface="Arial"/>
              </a:rPr>
              <a:t>The Case for Teaching/Pedagogy led Positio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  <a:ea typeface="Arial"/>
              </a:rPr>
              <a:t>Integrating Teaching/Pedagogy as Positioning- Strategy and Communication Practic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Flight Pat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5508720" y="1700280"/>
            <a:ext cx="3333600" cy="33145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900000" y="1989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SHOUTING</a:t>
            </a:r>
            <a:r>
              <a:rPr b="0" lang="ja-JP" sz="2400" spc="-1" strike="noStrike">
                <a:solidFill>
                  <a:srgbClr val="003366"/>
                </a:solidFill>
                <a:latin typeface="Calibri"/>
              </a:rPr>
              <a:t>”</a:t>
            </a:r>
            <a:r>
              <a:rPr b="0" lang="en-AU" sz="24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Schools that feel the need to shout are considered to be brand egotists and less likely to be parent/student centered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Taking a Position to the Market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No to Megaphone Market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539280" y="141264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366"/>
                </a:solidFill>
                <a:latin typeface="Calibri"/>
              </a:rPr>
              <a:t>Investing in traditional marketing communications is unlikely in itself to enhance positioning or indeed reputa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As well as providing the prospect with factual information needed to make a choice there needs to be the qualitative and emotive positioning content to encourage them to choose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The positioning (reason for choosing this school over all others) must be relevant and thus align with one of the key drivers (one of the top 2 ideally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</a:rPr>
              <a:t>Once this issue has been agreed it needs to be communicated in meaningful ways. How can it be illustrated, exemplified, brought to live, made convincing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Market Communications: Lessons from the Fiel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Table 2" descr=""/>
          <p:cNvPicPr/>
          <p:nvPr/>
        </p:nvPicPr>
        <p:blipFill>
          <a:blip r:embed="rId1"/>
          <a:stretch/>
        </p:blipFill>
        <p:spPr>
          <a:xfrm>
            <a:off x="566640" y="1365120"/>
            <a:ext cx="8010720" cy="42436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Example: How to Position Claims of ’Teaching Quality’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6248520" y="5626080"/>
            <a:ext cx="2444760" cy="939960"/>
          </a:xfrm>
          <a:prstGeom prst="rect">
            <a:avLst/>
          </a:prstGeom>
          <a:ln w="0">
            <a:noFill/>
          </a:ln>
        </p:spPr>
      </p:pic>
      <p:sp>
        <p:nvSpPr>
          <p:cNvPr id="192" name="Line 3"/>
          <p:cNvSpPr/>
          <p:nvPr/>
        </p:nvSpPr>
        <p:spPr>
          <a:xfrm flipH="1">
            <a:off x="380520" y="6477120"/>
            <a:ext cx="5715000" cy="0"/>
          </a:xfrm>
          <a:prstGeom prst="line">
            <a:avLst/>
          </a:prstGeom>
          <a:ln w="28440">
            <a:solidFill>
              <a:srgbClr val="9ca1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</a:rPr>
              <a:t>First, audit the data the school already has (or could access externally for modest cost/effort) to populate agreed metric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</a:rPr>
              <a:t>Second, to decide whether residual gaps in data should be filled by initiating new processes internally or commissioning resear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</a:rPr>
              <a:t>Third, to decide what weight to give to each agreed measure/metric (or cluster of measures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3240" y="0"/>
            <a:ext cx="9140760" cy="100980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art an Internal Positioning Discussion-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edagogy and Teaching Quality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39280" y="1371600"/>
            <a:ext cx="828036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Mapping competitor messag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Secondary evidence e.g. required university, graduate ski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Alumn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Stude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Prospective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Pare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Debriefing for staff/explor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Calibri"/>
              </a:rPr>
              <a:t>Concept checking – current stude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Evidence Led Process to  Build Positioning by Pedagog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6248520" y="5626080"/>
            <a:ext cx="2444760" cy="939960"/>
          </a:xfrm>
          <a:prstGeom prst="rect">
            <a:avLst/>
          </a:prstGeom>
          <a:ln w="0">
            <a:noFill/>
          </a:ln>
        </p:spPr>
      </p:pic>
      <p:sp>
        <p:nvSpPr>
          <p:cNvPr id="198" name="Line 3"/>
          <p:cNvSpPr/>
          <p:nvPr/>
        </p:nvSpPr>
        <p:spPr>
          <a:xfrm flipH="1">
            <a:off x="380520" y="6477120"/>
            <a:ext cx="5715000" cy="0"/>
          </a:xfrm>
          <a:prstGeom prst="line">
            <a:avLst/>
          </a:prstGeom>
          <a:ln w="28440">
            <a:solidFill>
              <a:srgbClr val="9ca1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0"/>
            <a:ext cx="9144000" cy="5486400"/>
          </a:xfrm>
          <a:prstGeom prst="rect">
            <a:avLst/>
          </a:prstGeom>
          <a:solidFill>
            <a:srgbClr val="9ca1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alibri"/>
              </a:rPr>
              <a:t>Thank You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95280" y="406440"/>
            <a:ext cx="8353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Independent School Markets- Helicopter View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50920" y="1052640"/>
            <a:ext cx="85690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12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Mature and choice based sector - many sellers and buyers (crowded)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112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112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3366"/>
                </a:solidFill>
                <a:latin typeface="Calibri"/>
                <a:ea typeface="Arial"/>
              </a:rPr>
              <a:t>Prospective parents markets discerning in a choice based market environmen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112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112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Education operates like a consumer-driven market</a:t>
            </a:r>
            <a:r>
              <a:rPr b="0" lang="en-AU" sz="1800" spc="-1" strike="noStrike">
                <a:solidFill>
                  <a:srgbClr val="003366"/>
                </a:solidFill>
                <a:latin typeface="Calibri"/>
                <a:ea typeface="Arial"/>
              </a:rPr>
              <a:t>- schools compete for best students, while parents/students compete for most preferred schools. </a:t>
            </a:r>
            <a:br>
              <a:rPr sz="1800"/>
            </a:br>
            <a:r>
              <a:rPr b="0" lang="en-AU" sz="18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112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Paradigm shift to demand-driven model - unprecedented need for focus on </a:t>
            </a:r>
            <a:r>
              <a:rPr b="0" lang="en-AU" sz="1800" spc="-1" strike="noStrike">
                <a:solidFill>
                  <a:srgbClr val="003366"/>
                </a:solidFill>
                <a:latin typeface="Calibri"/>
                <a:ea typeface="Arial"/>
              </a:rPr>
              <a:t>strategic approaches  to markets.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112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112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Parents now more investors more than consumers - seek valued differentiatio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112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112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Education, however, less amenable to clear ROI- accrues both short term (experiential, intangible) and life long benefits (employment, values, etc.)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1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1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lion under plane wing"/>
          <p:cNvPicPr/>
          <p:nvPr/>
        </p:nvPicPr>
        <p:blipFill>
          <a:blip r:embed="rId1"/>
          <a:srcRect l="2593" t="11137" r="4188" b="0"/>
          <a:stretch/>
        </p:blipFill>
        <p:spPr>
          <a:xfrm>
            <a:off x="684360" y="1646280"/>
            <a:ext cx="7750080" cy="3276720"/>
          </a:xfrm>
          <a:prstGeom prst="rect">
            <a:avLst/>
          </a:prstGeom>
          <a:ln w="50760">
            <a:solidFill>
              <a:srgbClr val="cc99ff"/>
            </a:solidFill>
            <a:miter/>
          </a:ln>
        </p:spPr>
      </p:pic>
      <p:sp>
        <p:nvSpPr>
          <p:cNvPr id="145" name="TextBox 5"/>
          <p:cNvSpPr/>
          <p:nvPr/>
        </p:nvSpPr>
        <p:spPr>
          <a:xfrm>
            <a:off x="857160" y="1714680"/>
            <a:ext cx="78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lue is defined by the receiver more than the giv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Schools Operating in a Competitive Marke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  <a:ea typeface="Arial"/>
              </a:rPr>
              <a:t>Positioning mean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2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  <a:ea typeface="Arial"/>
              </a:rPr>
              <a:t>Designing the school and its offering and managing its image to occupy a distinctive place in the mind of the those in your target segmen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2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  <a:ea typeface="Arial"/>
              </a:rPr>
              <a:t>Positioning -  a cogent reason why the target market should choose you over all other alternatives!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1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2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alibri"/>
                <a:ea typeface="Arial"/>
              </a:rPr>
              <a:t>You must own a word or concept to build market positioning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-68400"/>
            <a:ext cx="9144000" cy="8445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osition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-31680"/>
            <a:ext cx="9144000" cy="8445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ositioning in a Competitive School Market: Nutshel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3"/>
          <p:cNvGraphicFramePr/>
          <p:nvPr/>
        </p:nvGraphicFramePr>
        <p:xfrm>
          <a:off x="2268360" y="2205000"/>
          <a:ext cx="7075800" cy="67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205000"/>
                    <a:ext cx="7075800" cy="67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4"/>
          <p:cNvSpPr/>
          <p:nvPr/>
        </p:nvSpPr>
        <p:spPr>
          <a:xfrm>
            <a:off x="-98280" y="0"/>
            <a:ext cx="9144000" cy="1009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ducation Positioning is Different- Substance Ru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22280" y="887040"/>
            <a:ext cx="829944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Efforts to position independent schools (with differentiation) generally weak and indistin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Modest differentiation between schools– few have defined reputation flagships or are distinctive in ways valued by the marke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  <a:ea typeface="Arial"/>
              </a:rPr>
              <a:t>Rarely conscious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investment in differentiating factors for defined segments by identifying </a:t>
            </a:r>
            <a:r>
              <a:rPr b="0" lang="en-AU" sz="1800" spc="-1" strike="noStrike">
                <a:solidFill>
                  <a:srgbClr val="003366"/>
                </a:solidFill>
                <a:latin typeface="Calibri"/>
                <a:ea typeface="Arial"/>
              </a:rPr>
              <a:t>motivation/expectation.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Schools struggle to align to choice motivations in market positioni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alibri"/>
                <a:ea typeface="Arial"/>
              </a:rPr>
              <a:t>Most schools try to cover all bases (inclusive) in position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Place, history often primary differentiator- other difference often buri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Internally, often address weakness rather than build, extend market strength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dependent School Market Positioning: Observ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able 2" descr=""/>
          <p:cNvPicPr/>
          <p:nvPr/>
        </p:nvPicPr>
        <p:blipFill>
          <a:blip r:embed="rId1"/>
          <a:stretch/>
        </p:blipFill>
        <p:spPr>
          <a:xfrm>
            <a:off x="695160" y="2286000"/>
            <a:ext cx="7809120" cy="2120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Arial"/>
              </a:rPr>
              <a:t>There Must be Another Way to Position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9:11:30Z</dcterms:created>
  <dc:creator>stephen holmes</dc:creator>
  <dc:description/>
  <dc:language>en-US</dc:language>
  <cp:lastModifiedBy>User</cp:lastModifiedBy>
  <cp:lastPrinted>2014-05-24T02:48:25Z</cp:lastPrinted>
  <dcterms:modified xsi:type="dcterms:W3CDTF">2014-06-10T07:26:46Z</dcterms:modified>
  <cp:revision>1841</cp:revision>
  <dc:subject/>
  <dc:title>No Slide Title</dc:title>
</cp:coreProperties>
</file>