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BE2-C057-4F4F-8DE1-56D347850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5A6B-3111-4BC2-8689-23A19DFE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D68-0290-4394-897E-31A006C7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491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49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1333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491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49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133360" y="2895480"/>
            <a:ext cx="6553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491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49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1333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491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49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133360" y="2895480"/>
            <a:ext cx="6553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91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649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1333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491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5649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133360" y="2895480"/>
            <a:ext cx="6553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491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649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1333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3491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649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133360" y="2895480"/>
            <a:ext cx="6553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33360" y="2895480"/>
            <a:ext cx="6553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491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64960" y="342900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1333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3491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64960" y="4838040"/>
            <a:ext cx="210996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91440" y="483804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91440" y="3429000"/>
            <a:ext cx="31978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33360" y="4838040"/>
            <a:ext cx="655308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asic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22860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1817640" y="0"/>
            <a:ext cx="7478640" cy="914400"/>
          </a:xfrm>
          <a:prstGeom prst="rect">
            <a:avLst/>
          </a:prstGeom>
          <a:solidFill>
            <a:srgbClr val="637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Contact Details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Picture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Title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904760" y="22860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fessional Review Proces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ds / Principals</a:t>
            </a:r>
            <a:endParaRPr b="1" lang="en-US" sz="32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286000" y="3809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Schools of 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 Jun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2492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Teaching and Learning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13372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velops and implements teaching and learning policies, processes and programs to guide the development of staff and students towards reaching their full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Teaching and Learning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9807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ctions and Behaviou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monstrates expert knowledge of the core businesses of teaching, learning, curriculum, assessment and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pplies knowledge and understanding of pedagogy to inform, plan, implement, monitor and evaluate teachers, learning, assessment and reporting practices across th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monstrates leadership of the school community to develop, articulate and commit to a shared vision of quality teaching an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pplies expert knowledge and understanding of student learning, development and 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monstrates sound judgement and ability to design, implement and evaluate a range of legislative, curriculum and policy requirements including NAPLA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2492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Managemen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ilds and maintains sound knowledge and understanding of the business environment and applies commercial exp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velops and implements agreed resource structures to attract, retain, and motivate teachers and support staff to achieve schoo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Managemen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20570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ctions and Behaviou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splays a sound understanding of effective financial management principles within an education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ads the development of the school’s business and operational plans in accordance with agreed priorities and strategic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velops the school’s organisation structure and resourcing models within budgetar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igns teams with organisation values and goals through effective people management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ads, encourages, inspires, and supports staff to develop confidence and capability helping them realise their full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Self Appraisal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19807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vides opportunity for focused self reflection consistent with the agreed apprais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flects capabilities and items in stakeholder questionnaires to support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Feedback</a:t>
            </a:r>
            <a:br>
              <a:rPr sz="2800"/>
            </a:b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s /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Review Meeting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1337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Plannin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cycle Progre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of cycl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Development Plan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57040"/>
            <a:ext cx="8076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ulmination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63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What it’s really all abo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mary aim is to support improvement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What has the AIS experience been?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9807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ning phase is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63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o, what, where, why and h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ngs need to be meaning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versus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naire needs to be easily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eeds to be 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 still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Any Questions?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At a Glance ....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35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Detai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e Bail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:  H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12, 99 York Street, Sydney NSW 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lbailey@aisnsw.edu.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appraisal as a key governance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s within the sector and education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s about existing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ce / Education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Guiding Principle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to schoo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e to good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rather than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ty of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goo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the responsibilities of Heads of independent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The Proces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01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Key Feature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20574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ference to School strategic goals and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MART go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Apprais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cused Mee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School Strategic Goals and Values 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228564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Goals and capabilities should be aligned to the strategic goals and values of the scho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f no strategic plan, templates are provided to guide discussion and develop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SMART Goal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15998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utcomes and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pected to be achieved through the course of the year or review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mmon categories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Educ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ime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38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2514240"/>
            <a:ext cx="3353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lationship with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chool Value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undar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4648320" y="2514600"/>
            <a:ext cx="4343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nowledge of Education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lationship with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al Characteristics /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ith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Pastoral Care / Student Well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609480" y="1763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puts and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02:20:03Z</dcterms:created>
  <dc:creator>janine</dc:creator>
  <dc:description/>
  <dc:language>en-US</dc:language>
  <cp:lastModifiedBy>LB</cp:lastModifiedBy>
  <dcterms:modified xsi:type="dcterms:W3CDTF">2014-06-19T04:05:52Z</dcterms:modified>
  <cp:revision>93</cp:revision>
  <dc:subject/>
  <dc:title>Slide 1</dc:title>
</cp:coreProperties>
</file>